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2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8CDE-F070-4743-BC30-8507FF65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AC5C-DD3D-474E-B8E5-4038EA07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3E69-096F-4DC7-9AF6-24EAF81A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1730-0359-44C1-A497-0AF196AB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A608-1270-42F6-BE58-5D731C50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E149-5C0B-4C33-830F-1D823EE8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2ED9-469A-4D11-9345-ACE71223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7DB7-0438-431F-A6DD-A14789D7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3843-9D0B-4ACA-984C-0B6D6F5E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3EFC-15A4-4AEF-B4DB-DB4C0F26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FC4C-DC99-48ED-A751-9BA79BA3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04D3-7D27-48F3-9D2E-E179B9E8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0648-7202-4C06-BFA8-1BDCCAD7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7BAA-C836-44C3-B22A-DFFFED52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15E1-7A21-42A8-891D-BCF2023E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35CE-3EC4-4A3F-BD5D-35F90A5D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2C47-D9D8-46A7-9688-ABC8CE85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3FF7-86AF-43DD-987C-BEDC4789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44FE-FEB3-411A-875D-9B3CD047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1160-EF74-4B13-87A7-1B6C843D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DBF0-2AA8-40AF-87F1-BB065C69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51E5-F0D6-41B9-BF80-CF39536B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5F8C-A7F7-49FE-88A6-1DDB86A6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DC09-8AC6-4B16-9858-3FEF80D5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451B-CDF1-4B10-989C-03657996AA8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33B9-41A0-4C9A-A08F-2186BD642AE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preferatele.com/docs/matematica/2/puteri-si-radicali-16.php" TargetMode="External"/><Relationship Id="rId3" Type="http://schemas.openxmlformats.org/officeDocument/2006/relationships/hyperlink" Target="http://www.ecursuri.ro/referate/referate.php?report=puteri-si-radicali" TargetMode="External"/><Relationship Id="rId4" Type="http://schemas.openxmlformats.org/officeDocument/2006/relationships/hyperlink" Target="http://www.scritube.com/stiinta/matematica/PUTERI-I-RADICALI321815224.php" TargetMode="External"/><Relationship Id="rId5" Type="http://schemas.openxmlformats.org/officeDocument/2006/relationships/hyperlink" Target="http://meditatiionline.ro/44100-24-283-0-0-Formule_Matematica_Functii_Puteri_cu_exponent_real.html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219640" y="3789360"/>
            <a:ext cx="3924360" cy="30686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468360" y="2421000"/>
            <a:ext cx="83152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unctia putere 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835280" y="189000"/>
            <a:ext cx="68580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Liceul Pedagogic "N.Bolcas", Beiu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 Black"/>
              <a:ea typeface="Arial Black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348000" y="2565360"/>
            <a:ext cx="5796000" cy="4292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 rot="20922600">
            <a:off x="279360" y="836280"/>
            <a:ext cx="8864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Functia putere cu exponen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 Black"/>
              <a:ea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708360" y="2565360"/>
            <a:ext cx="403236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intreg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 Black"/>
              <a:ea typeface="Arial Black"/>
            </a:endParaRPr>
          </a:p>
        </p:txBody>
      </p:sp>
    </p:spTree>
  </p:cSld>
  <p:transition>
    <p:newsflash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26290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77774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Definiti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o-RO" sz="2800" spc="-1" strike="noStrike">
                <a:solidFill>
                  <a:srgbClr val="000000"/>
                </a:solidFill>
                <a:latin typeface="Comic Sans MS"/>
              </a:rPr>
              <a:t>=x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Comic Sans MS"/>
              </a:rPr>
              <a:t>f:R-{0}</a:t>
            </a:r>
            <a:r>
              <a:rPr b="1" lang="ro-RO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o-RO" sz="2800" spc="-1" strike="noStrike">
                <a:solidFill>
                  <a:srgbClr val="000000"/>
                </a:solidFill>
                <a:latin typeface="Comic Sans MS"/>
              </a:rPr>
              <a:t>R, n</a:t>
            </a:r>
            <a:r>
              <a:rPr b="1" lang="ro-RO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ro-RO" sz="2800" spc="-1" strike="noStrike">
                <a:solidFill>
                  <a:srgbClr val="000000"/>
                </a:solidFill>
                <a:latin typeface="Comic Sans MS"/>
              </a:rPr>
              <a:t>N*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notoni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itate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m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916360" y="2349360"/>
                <a:ext cx="532908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  par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trict crescatoare pe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rPr>
                            <m:lit/>
                            <m:nor/>
                          </m:rPr>
                          <m:t xml:space="preserve">, 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 par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trict descrescatoare p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 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 impar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trict descrescatoare pe R-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843280" y="4005360"/>
                <a:ext cx="63007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  par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para, graficul simetric fata de O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 impar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mpara, graficul simetric fata de origin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-25236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987640" y="5300640"/>
                <a:ext cx="345600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0, n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N,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par</m:t>
                        </m:r>
                        <m:r>
                          <m:t xml:space="preserve">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impar</m:t>
                        </m:r>
                        <m:r>
                          <m:t xml:space="preserve">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4211640" y="9079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-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19640" y="105264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0908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4788000" y="1125360"/>
          <a:ext cx="3671640" cy="30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125360"/>
                    <a:ext cx="3671640" cy="30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539640" y="1700280"/>
          <a:ext cx="3600720" cy="351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700280"/>
                    <a:ext cx="3600720" cy="35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 rot="21470400">
            <a:off x="539640" y="1197000"/>
            <a:ext cx="3743280" cy="36306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 rot="21454200">
            <a:off x="4067280" y="1915920"/>
            <a:ext cx="4548240" cy="36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 rot="21478200">
            <a:off x="1402920" y="404280"/>
            <a:ext cx="59245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780000" y="3260880"/>
            <a:ext cx="5364000" cy="35971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89000"/>
            <a:ext cx="8135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77777"/>
                </a:solidFill>
                <a:latin typeface="Arial Black"/>
              </a:rPr>
              <a:t>Functia putere cu exponent ration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77777"/>
              </a:solidFill>
              <a:latin typeface="Arial Black"/>
              <a:ea typeface="Arial Black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5183280" cy="3908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195640" y="836640"/>
            <a:ext cx="4459320" cy="475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132000" y="2770200"/>
            <a:ext cx="6012000" cy="40878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7920000" cy="56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Pentru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α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 =0, se obţine funcţia constantă </a:t>
            </a:r>
            <a:r>
              <a:rPr b="1" lang="en-AU" sz="2800" spc="-1" strike="noStrike">
                <a:solidFill>
                  <a:srgbClr val="000000"/>
                </a:solidFill>
                <a:latin typeface="Monotype Corsiva"/>
              </a:rPr>
              <a:t>                        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f :(0, + ∞)</a:t>
            </a: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ℝ</a:t>
            </a: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, f(x) =1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95280" y="0"/>
            <a:ext cx="8029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77777"/>
                </a:solidFill>
                <a:latin typeface="Arial Black"/>
              </a:rPr>
              <a:t>Functia putere cu exponent numar re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77777"/>
              </a:solidFill>
              <a:latin typeface="Arial Black"/>
              <a:ea typeface="Arial Black"/>
            </a:endParaRPr>
          </a:p>
        </p:txBody>
      </p:sp>
    </p:spTree>
  </p:cSld>
  <p:transition>
    <p:newsflash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411280" y="2022480"/>
            <a:ext cx="6732720" cy="4835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0578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ibliografi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nual de matematica pt cls. a Xa , Mircea Ganga 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ditura Mathpress, 200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www.preferatele.com/docs/matematica/2/puteri-si-radicali-16.ph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http://www.ecursuri.ro/referate/referate.php?report=puteri-si-radical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http://www.scritube.com/stiinta/matematica/PUTERI-I-RADICALI321815224.ph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http://meditatiionline.ro/44100-24-283-0-0-Formule_Matematica_Functii_Puteri_cu_exponent_real.htm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newsflash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7380360" cy="5300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0" y="333360"/>
            <a:ext cx="399564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Realizat de: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Hus Alin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      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Takacs Bianca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Laza Bianc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Ganea Alin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     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Martin Madalina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 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Balint Adrian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 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Petrut Bogda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Petrut Rare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00720" y="692280"/>
            <a:ext cx="394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Coordonator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Lezeu Eugen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 Black"/>
              <a:ea typeface="Arial Black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12000" cy="5578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358920" y="1197000"/>
            <a:ext cx="8785080" cy="31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Functia putere cu exponen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 Black"/>
              <a:ea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0" y="3213000"/>
            <a:ext cx="3889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77777"/>
                </a:solidFill>
                <a:latin typeface="Arial Black"/>
              </a:rPr>
              <a:t>nr. natur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77777"/>
              </a:solidFill>
              <a:latin typeface="Arial Black"/>
              <a:ea typeface="Arial Black"/>
            </a:endParaRPr>
          </a:p>
        </p:txBody>
      </p:sp>
    </p:spTree>
  </p:cSld>
  <p:transition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788508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o-RO" sz="3200" spc="-1" strike="noStrike">
                <a:solidFill>
                  <a:srgbClr val="000000"/>
                </a:solidFill>
                <a:latin typeface="Comic Sans MS"/>
              </a:rPr>
              <a:t>Definiţi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omic Sans MS"/>
              </a:rPr>
              <a:t>Funcţia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Comic Sans MS"/>
              </a:rPr>
              <a:t>f: R → R, f(x)=x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o-RO" sz="2800" spc="-1" strike="noStrike">
                <a:solidFill>
                  <a:srgbClr val="000000"/>
                </a:solidFill>
                <a:latin typeface="Comic Sans MS"/>
              </a:rPr>
              <a:t>cu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o-RO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є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Comic Sans MS"/>
              </a:rPr>
              <a:t>N*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se numeşte funcţie putere cu exponent număr natural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Pentru n=1  si n=2 se obţin</a:t>
            </a:r>
            <a:r>
              <a:rPr b="0" lang="ro-RO" sz="3000" spc="-1" strike="noStrike">
                <a:solidFill>
                  <a:srgbClr val="000000"/>
                </a:solidFill>
                <a:latin typeface="Comic Sans MS"/>
              </a:rPr>
              <a:t> funcţiile</a:t>
            </a: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 putere de gradul  I şi gradul II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AU" sz="3000" spc="-1" strike="noStrike">
                <a:solidFill>
                  <a:srgbClr val="000000"/>
                </a:solidFill>
                <a:latin typeface="Comic Sans MS"/>
              </a:rPr>
              <a:t>f : ℝ → ℝ , f(x)= x</a:t>
            </a: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 respectiv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AU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AU" sz="3000" spc="-1" strike="noStrike">
                <a:solidFill>
                  <a:srgbClr val="000000"/>
                </a:solidFill>
                <a:latin typeface="Comic Sans MS"/>
              </a:rPr>
              <a:t>f : ℝ→ ℝ , f(x)= x²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843280" y="3357720"/>
            <a:ext cx="6300720" cy="35002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435640" y="404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3291120" cy="4319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643280" y="765000"/>
            <a:ext cx="32194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627280" y="3614760"/>
            <a:ext cx="6516720" cy="32432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0"/>
            <a:ext cx="8137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omic Sans MS"/>
              </a:rPr>
              <a:t>Funcţia </a:t>
            </a: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putere de gradul I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f(x)= x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  este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 funcţie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impară, strict crescătoare pe ℝ şi bijectiv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omic Sans MS"/>
              </a:rPr>
              <a:t>Funcţia</a:t>
            </a: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 putere de gradul II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f(x)= x²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     este 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funcţie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pară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strict descrescătoare pe  (-∞,0]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AU" sz="2400" spc="-1" strike="noStrike">
                <a:solidFill>
                  <a:srgbClr val="ffffff"/>
                </a:solidFill>
                <a:latin typeface="Comic Sans MS"/>
              </a:rPr>
              <a:t>strict crescătoare  pe [0, ∞), nu                  </a:t>
            </a:r>
            <a:r>
              <a:rPr b="0" lang="en-A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Comic Sans MS"/>
              </a:rPr>
              <a:t>      este injectiva sau surjectiv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newsflash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15360" cy="6905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-18108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P</a:t>
            </a:r>
            <a:r>
              <a:rPr b="1" lang="ro-RO" sz="3200" spc="-1" strike="noStrike">
                <a:solidFill>
                  <a:srgbClr val="000000"/>
                </a:solidFill>
                <a:latin typeface="Berlin Sans FB Demi"/>
              </a:rPr>
              <a:t>rincipalele atribute ce carac</a:t>
            </a: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t</a:t>
            </a:r>
            <a:r>
              <a:rPr b="1" lang="ro-RO" sz="3200" spc="-1" strike="noStrike">
                <a:solidFill>
                  <a:srgbClr val="000000"/>
                </a:solidFill>
                <a:latin typeface="Berlin Sans FB Demi"/>
              </a:rPr>
              <a:t>erizează această funcţi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370160" y="474840"/>
                <a:ext cx="1141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370160" y="474840"/>
                <a:ext cx="1141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370160" y="474840"/>
                <a:ext cx="180720" cy="14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370160" y="474840"/>
                <a:ext cx="180720" cy="14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370160" y="474840"/>
                <a:ext cx="180720" cy="14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370160" y="474840"/>
                <a:ext cx="180720" cy="14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370160" y="474840"/>
                <a:ext cx="15228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722760" y="3478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140360" y="3251160"/>
            <a:ext cx="5003640" cy="36068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27120" y="260280"/>
            <a:ext cx="85168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3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3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Fie</a:t>
            </a: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AU" sz="3200" spc="-1" strike="noStrike">
                <a:solidFill>
                  <a:srgbClr val="000000"/>
                </a:solidFill>
                <a:latin typeface="Comic Sans MS"/>
              </a:rPr>
              <a:t>n є ℕ*</a:t>
            </a: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si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Comic Sans MS"/>
              </a:rPr>
              <a:t>f : ℝ→ ℝ , f(x)= xⁿ</a:t>
            </a: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atunci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a) 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funcţia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f este pară pentru n-numar par şi impară pentru  n-impa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entru n-numar impar 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funcţia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f este strict  crescătoa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Comic Sans MS"/>
              </a:rPr>
              <a:t>c) 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entru  </a:t>
            </a:r>
            <a:r>
              <a:rPr b="0" lang="en-AU" sz="2800" spc="-1" strike="noStrike">
                <a:solidFill>
                  <a:srgbClr val="ffffff"/>
                </a:solidFill>
                <a:latin typeface="Comic Sans MS"/>
              </a:rPr>
              <a:t>n-numar par </a:t>
            </a:r>
            <a:r>
              <a:rPr b="0" lang="ro-RO" sz="2800" spc="-1" strike="noStrike">
                <a:solidFill>
                  <a:srgbClr val="ffffff"/>
                </a:solidFill>
                <a:latin typeface="Comic Sans MS"/>
              </a:rPr>
              <a:t>funcţia</a:t>
            </a:r>
            <a:r>
              <a:rPr b="0" lang="en-AU" sz="2800" spc="-1" strike="noStrike">
                <a:solidFill>
                  <a:srgbClr val="ffffff"/>
                </a:solidFill>
                <a:latin typeface="Comic Sans MS"/>
              </a:rPr>
              <a:t> f est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strict descresc</a:t>
            </a:r>
            <a:r>
              <a:rPr b="0" lang="en-AU" sz="2800" spc="-1" strike="noStrike">
                <a:solidFill>
                  <a:srgbClr val="ffffff"/>
                </a:solidFill>
                <a:latin typeface="Comic Sans MS"/>
              </a:rPr>
              <a:t>ătoare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Comic Sans MS"/>
              </a:rPr>
              <a:t>pe  (-∞,0],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strict crescăto</a:t>
            </a:r>
            <a:r>
              <a:rPr b="0" lang="en-AU" sz="2800" spc="-1" strike="noStrike">
                <a:solidFill>
                  <a:srgbClr val="ffffff"/>
                </a:solidFill>
                <a:latin typeface="Comic Sans MS"/>
              </a:rPr>
              <a:t>are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Comic Sans MS"/>
              </a:rPr>
              <a:t>pe [0, ∞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newsflash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651640" y="3860640"/>
            <a:ext cx="3492360" cy="2997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528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28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28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28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omic Sans MS"/>
              </a:rPr>
              <a:t>monotoni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28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28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28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aritat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28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28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em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1204200"/>
            <a:ext cx="5256360" cy="16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52360" tIns="46800" bIns="647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f(x)=x</a:t>
            </a:r>
            <a:r>
              <a:rPr b="1" lang="ro-RO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n</a:t>
            </a:r>
            <a:r>
              <a:rPr b="1" lang="ro-RO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,  f:R</a:t>
            </a:r>
            <a:r>
              <a:rPr b="1" lang="ro-RO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o-RO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R,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  </a:t>
            </a:r>
            <a:r>
              <a:rPr b="1" lang="ro-RO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n</a:t>
            </a:r>
            <a:r>
              <a:rPr b="1" lang="ro-RO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ro-RO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N</a:t>
            </a:r>
            <a:r>
              <a:rPr b="1" lang="ro-RO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916360" y="1844640"/>
                <a:ext cx="56163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  par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trict descrescatoare pe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rPr>
                            <m:lit/>
                            <m:nor/>
                          </m:rPr>
                          <m:t xml:space="preserve">, 0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 par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trict crescatoare pe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0, 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 impar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trict crescatoare pe 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556000" y="3645000"/>
                <a:ext cx="64101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  par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para, graficul simetric fata de O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 impar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mpara, graficul simetric fata de origin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771640" y="4797360"/>
                <a:ext cx="417672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0, n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N,n</m:t>
                        </m:r>
                        <m:r>
                          <m:t xml:space="preserve">≥</m:t>
                        </m:r>
                        <m:r>
                          <m:t xml:space="preserve">2</m:t>
                        </m:r>
                        <m:r>
                          <m:t xml:space="preserve">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par</m:t>
                        </m:r>
                        <m:r>
                          <m:t xml:space="preserve">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impar</m:t>
                        </m:r>
                        <m:r>
                          <m:t xml:space="preserve">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 txBox="1"/>
          <p:nvPr/>
        </p:nvSpPr>
        <p:spPr>
          <a:xfrm>
            <a:off x="250920" y="189000"/>
            <a:ext cx="85723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 Black"/>
              </a:rPr>
              <a:t>Functia putere cu exponent natural nenu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 Black"/>
              <a:ea typeface="Arial Black"/>
            </a:endParaRPr>
          </a:p>
        </p:txBody>
      </p:sp>
    </p:spTree>
  </p:cSld>
  <p:transition>
    <p:newsflash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13:19:21Z</dcterms:created>
  <dc:creator>Bianca</dc:creator>
  <dc:description/>
  <dc:language>en-US</dc:language>
  <cp:lastModifiedBy>Jeni</cp:lastModifiedBy>
  <dcterms:modified xsi:type="dcterms:W3CDTF">2011-02-24T21:45:17Z</dcterms:modified>
  <cp:revision>11</cp:revision>
  <dc:subject/>
  <dc:title>Slide 1</dc:title>
</cp:coreProperties>
</file>